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1B40B-B8B7-4B4D-97DD-53D7B5DC9F7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5473C-625E-4F8D-91BD-8D8A3C8A136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6686-DFC3-4E95-B8C0-7BF47F357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6B5D-4882-4699-8B6B-5A395958C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514A-3E42-486D-960B-0F7768A77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419F-C627-41F3-9D1D-4773F1A78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AD38-C9B2-444A-BEAD-2AA13C6CC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1258-4FEB-4D1D-B2AD-CD4AD3604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C001-70B2-4353-A620-10859A94A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6104-F95A-45C8-8E0C-09AD9A414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D09C-D181-4C6C-AA79-2D5343E05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DB80-944A-407E-BB4B-801F31B4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D32A-2FD4-4597-88EB-36E5F1E2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5E76-6570-4A55-BF85-0DDC8C75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945DD-40D8-40B9-9DCC-32B56E5D90D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2785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fika 3D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4214880"/>
            <a:ext cx="692928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bacc6"/>
                </a:solidFill>
                <a:latin typeface="Times New Roman"/>
                <a:ea typeface="Times New Roman"/>
              </a:rPr>
              <a:t>Współrzędne jednorod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ole tekstowe 4"/>
          <p:cNvSpPr/>
          <p:nvPr/>
        </p:nvSpPr>
        <p:spPr>
          <a:xfrm>
            <a:off x="446400" y="357120"/>
            <a:ext cx="47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ykład z grafiki komputerowej II (3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cek Matulewski (e-mail: </a:t>
            </a:r>
            <a:r>
              <a:rPr b="0" lang="pl-PL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jacek@fizyka.umk.pl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http://www.fizyka.umk.pl/~jacek/dydaktyka/3d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ole tekstowe 4"/>
          <p:cNvSpPr/>
          <p:nvPr/>
        </p:nvSpPr>
        <p:spPr>
          <a:xfrm>
            <a:off x="6216480" y="6286680"/>
            <a:ext cx="26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rsja: </a:t>
            </a:r>
            <a:r>
              <a:rPr b="0" lang="pl-PL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15 listopada 2007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alowan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28760" y="1428840"/>
            <a:ext cx="85010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erz skalowania we współrzędnych jednorodnych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2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6"/>
              <p:cNvSpPr txBox="1"/>
              <p:nvPr/>
            </p:nvSpPr>
            <p:spPr>
              <a:xfrm>
                <a:off x="642960" y="2000160"/>
                <a:ext cx="1986120" cy="16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3" name="pole tekstowe 5"/>
          <p:cNvSpPr/>
          <p:nvPr/>
        </p:nvSpPr>
        <p:spPr>
          <a:xfrm>
            <a:off x="3371760" y="3286080"/>
            <a:ext cx="5429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glMatrixMode(GL_MODELVIEW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glLoadIdentity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oat S[16]={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0.5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0,0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1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0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0,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2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0,0,1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MultMatrixf(</a:t>
            </a:r>
            <a:r>
              <a:rPr b="0" lang="pl-PL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Transpozycja(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0" lang="pl-PL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)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ole tekstowe 7"/>
          <p:cNvSpPr/>
          <p:nvPr/>
        </p:nvSpPr>
        <p:spPr>
          <a:xfrm>
            <a:off x="3371040" y="3286080"/>
            <a:ext cx="266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Scalef(0.5,1,2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Obraz 6" descr="Skalowanie.jpg"/>
          <p:cNvPicPr/>
          <p:nvPr/>
        </p:nvPicPr>
        <p:blipFill>
          <a:blip r:embed="rId1"/>
          <a:stretch/>
        </p:blipFill>
        <p:spPr>
          <a:xfrm>
            <a:off x="357120" y="1500120"/>
            <a:ext cx="845208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9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9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9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alowan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28760" y="1428840"/>
            <a:ext cx="85010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erz skalowania jednorodnego we wszystkich kier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2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6"/>
              <p:cNvSpPr txBox="1"/>
              <p:nvPr/>
            </p:nvSpPr>
            <p:spPr>
              <a:xfrm>
                <a:off x="677880" y="2000160"/>
                <a:ext cx="1915920" cy="16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s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0" name="pole tekstowe 5"/>
          <p:cNvSpPr/>
          <p:nvPr/>
        </p:nvSpPr>
        <p:spPr>
          <a:xfrm>
            <a:off x="3371760" y="3286080"/>
            <a:ext cx="5429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glMatrixMode(GL_MODELVIEW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glLoadIdentity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oat S[16]={1,0,0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1,0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0,1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0,0,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2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MultMatrixf(</a:t>
            </a:r>
            <a:r>
              <a:rPr b="0" lang="pl-PL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Transpozycja(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0" lang="pl-PL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)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Obraz 6" descr="Skalowanie.jpg"/>
          <p:cNvPicPr/>
          <p:nvPr/>
        </p:nvPicPr>
        <p:blipFill>
          <a:blip r:embed="rId1"/>
          <a:stretch/>
        </p:blipFill>
        <p:spPr>
          <a:xfrm>
            <a:off x="357120" y="1500120"/>
            <a:ext cx="845208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9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9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ic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28760" y="1428840"/>
            <a:ext cx="85010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icie = „ujemne skalowanie”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2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6"/>
              <p:cNvSpPr txBox="1"/>
              <p:nvPr/>
            </p:nvSpPr>
            <p:spPr>
              <a:xfrm>
                <a:off x="712800" y="2000160"/>
                <a:ext cx="1844640" cy="16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6" name="pole tekstowe 5"/>
          <p:cNvSpPr/>
          <p:nvPr/>
        </p:nvSpPr>
        <p:spPr>
          <a:xfrm>
            <a:off x="3371760" y="3286080"/>
            <a:ext cx="5429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glMatrixMode(GL_MODELVIEW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glLoadIdentity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oat S[16]={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-1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0,0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1,0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0,1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0,0,1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MultMatrixf(</a:t>
            </a:r>
            <a:r>
              <a:rPr b="0" lang="pl-PL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Transpozycja(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0" lang="pl-PL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)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357120" y="1500120"/>
            <a:ext cx="847260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9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9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ó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28760" y="1428840"/>
            <a:ext cx="850104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erz obrotu we współrzędnych jednorodnych rozkładana jest na obroty wokół osi (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kąty Eulera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" name="Grupa 16"/>
          <p:cNvGrpSpPr/>
          <p:nvPr/>
        </p:nvGrpSpPr>
        <p:grpSpPr>
          <a:xfrm>
            <a:off x="785880" y="4429080"/>
            <a:ext cx="5705280" cy="2184840"/>
            <a:chOff x="785880" y="4429080"/>
            <a:chExt cx="5705280" cy="2184840"/>
          </a:xfrm>
        </p:grpSpPr>
        <mc:AlternateContent>
          <mc:Choice xmlns:a14="http://schemas.microsoft.com/office/drawing/2010/main" Requires="a14">
            <p:sp>
              <p:nvSpPr>
                <p:cNvPr id="111" name="Object 6"/>
                <p:cNvSpPr txBox="1"/>
                <p:nvPr/>
              </p:nvSpPr>
              <p:spPr>
                <a:xfrm>
                  <a:off x="785880" y="4429080"/>
                  <a:ext cx="2766960" cy="165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α</m:t>
                                </m:r>
                              </m:e>
                              <m:e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α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α</m:t>
                                </m:r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α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2" name="Object 4"/>
                <p:cNvSpPr txBox="1"/>
                <p:nvPr/>
              </p:nvSpPr>
              <p:spPr>
                <a:xfrm>
                  <a:off x="3701880" y="4429080"/>
                  <a:ext cx="2789280" cy="165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β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β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β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β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13" name="pole tekstowe 10"/>
            <p:cNvSpPr/>
            <p:nvPr/>
          </p:nvSpPr>
          <p:spPr>
            <a:xfrm>
              <a:off x="1099440" y="6215040"/>
              <a:ext cx="208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brót wokół osi 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pole tekstowe 11"/>
            <p:cNvSpPr/>
            <p:nvPr/>
          </p:nvSpPr>
          <p:spPr>
            <a:xfrm>
              <a:off x="4023360" y="6215040"/>
              <a:ext cx="208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brót wokół osi 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5" name="Object 7"/>
              <p:cNvSpPr txBox="1"/>
              <p:nvPr/>
            </p:nvSpPr>
            <p:spPr>
              <a:xfrm>
                <a:off x="820800" y="2500200"/>
                <a:ext cx="2697120" cy="16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6" name="pole tekstowe 13"/>
          <p:cNvSpPr/>
          <p:nvPr/>
        </p:nvSpPr>
        <p:spPr>
          <a:xfrm>
            <a:off x="3659760" y="2500200"/>
            <a:ext cx="28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ót o kąt </a:t>
            </a:r>
            <a:r>
              <a:rPr b="0" lang="pl-PL" sz="20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okół osi 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714920" y="4143240"/>
          <a:ext cx="4071960" cy="2378160"/>
        </p:xfrm>
        <a:graphic>
          <a:graphicData uri="http://schemas.openxmlformats.org/drawingml/2006/table">
            <a:tbl>
              <a:tblPr/>
              <a:tblGrid>
                <a:gridCol w="1000080"/>
                <a:gridCol w="1571760"/>
                <a:gridCol w="15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ąt </a:t>
                      </a: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s </a:t>
                      </a: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in </a:t>
                      </a: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0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30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0.86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45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0.70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0.70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60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0.86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90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9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2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9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ó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28760" y="1428840"/>
            <a:ext cx="850104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ót wokół osi Z o kąt 45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4"/>
              <p:cNvSpPr txBox="1"/>
              <p:nvPr/>
            </p:nvSpPr>
            <p:spPr>
              <a:xfrm>
                <a:off x="714240" y="2000160"/>
                <a:ext cx="3122640" cy="16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07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07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07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   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07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1" name="pole tekstowe 15"/>
          <p:cNvSpPr/>
          <p:nvPr/>
        </p:nvSpPr>
        <p:spPr>
          <a:xfrm>
            <a:off x="3001680" y="4000680"/>
            <a:ext cx="5118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oat Rz[16]={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0.7071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-0.7071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0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0.7071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0.7071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0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0,1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0,0,1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MultMatrixf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ranspozycja(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z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ole tekstowe 18"/>
          <p:cNvSpPr/>
          <p:nvPr/>
        </p:nvSpPr>
        <p:spPr>
          <a:xfrm>
            <a:off x="3014640" y="4000680"/>
            <a:ext cx="299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Rotatef(45,0,0,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Obraz 17" descr="ObrotZ.jpg"/>
          <p:cNvPicPr/>
          <p:nvPr/>
        </p:nvPicPr>
        <p:blipFill>
          <a:blip r:embed="rId1"/>
          <a:stretch/>
        </p:blipFill>
        <p:spPr>
          <a:xfrm>
            <a:off x="285840" y="1463760"/>
            <a:ext cx="8577000" cy="49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9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9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9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ó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28760" y="1428840"/>
            <a:ext cx="85010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ót wokół osi X o kąt </a:t>
            </a:r>
            <a:r>
              <a:rPr b="0" lang="pl-PL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ole tekstowe 15"/>
          <p:cNvSpPr/>
          <p:nvPr/>
        </p:nvSpPr>
        <p:spPr>
          <a:xfrm>
            <a:off x="3714840" y="2928960"/>
            <a:ext cx="5429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oat const a=2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oat const 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ar=a*M_PI/180.0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oat Rx[16]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1,0,0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cos(ar)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-sin(ar)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sin(ar)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cos(ar)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0,0,1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MultMatrixf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ranspozycja(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x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6"/>
              <p:cNvSpPr txBox="1"/>
              <p:nvPr/>
            </p:nvSpPr>
            <p:spPr>
              <a:xfrm>
                <a:off x="500040" y="2000160"/>
                <a:ext cx="2766960" cy="16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α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α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α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α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8" name="pole tekstowe 7"/>
          <p:cNvSpPr/>
          <p:nvPr/>
        </p:nvSpPr>
        <p:spPr>
          <a:xfrm>
            <a:off x="3728880" y="2143080"/>
            <a:ext cx="287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#include &lt;math.h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ole tekstowe 8"/>
          <p:cNvSpPr/>
          <p:nvPr/>
        </p:nvSpPr>
        <p:spPr>
          <a:xfrm>
            <a:off x="3799440" y="2928960"/>
            <a:ext cx="279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 float a=2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Rotatef(a,1,0,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Obraz 17" descr="ObrotZ.jpg"/>
          <p:cNvPicPr/>
          <p:nvPr/>
        </p:nvPicPr>
        <p:blipFill>
          <a:blip r:embed="rId1"/>
          <a:stretch/>
        </p:blipFill>
        <p:spPr>
          <a:xfrm>
            <a:off x="285840" y="1500120"/>
            <a:ext cx="857700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9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9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9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9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chylen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28760" y="1428840"/>
            <a:ext cx="85010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9000"/>
          </a:bodyPr>
          <a:p>
            <a:pPr marL="99360" indent="-99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erz pochylenia  (ang.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ew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99360" indent="-99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ementy pozadiagonal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99360" indent="-99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ie ma odpowiednika w funkcjach OpenGL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99360" indent="-99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99360" indent="-99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99360" indent="-99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a 7"/>
          <p:cNvGrpSpPr/>
          <p:nvPr/>
        </p:nvGrpSpPr>
        <p:grpSpPr>
          <a:xfrm>
            <a:off x="785880" y="3143160"/>
            <a:ext cx="7964280" cy="3284640"/>
            <a:chOff x="785880" y="3143160"/>
            <a:chExt cx="7964280" cy="3284640"/>
          </a:xfrm>
        </p:grpSpPr>
        <p:pic>
          <p:nvPicPr>
            <p:cNvPr id="134" name="Obraz 6" descr="Pochylenie.jpg"/>
            <p:cNvPicPr/>
            <p:nvPr/>
          </p:nvPicPr>
          <p:blipFill>
            <a:blip r:embed="rId1"/>
            <a:stretch/>
          </p:blipFill>
          <p:spPr>
            <a:xfrm>
              <a:off x="3035160" y="3143160"/>
              <a:ext cx="5715000" cy="328464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35" name="Object 6"/>
                <p:cNvSpPr txBox="1"/>
                <p:nvPr/>
              </p:nvSpPr>
              <p:spPr>
                <a:xfrm>
                  <a:off x="785880" y="3143160"/>
                  <a:ext cx="1890720" cy="165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2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6" name="Grupa 8"/>
          <p:cNvGrpSpPr/>
          <p:nvPr/>
        </p:nvGrpSpPr>
        <p:grpSpPr>
          <a:xfrm>
            <a:off x="571680" y="3143160"/>
            <a:ext cx="8153280" cy="3294000"/>
            <a:chOff x="571680" y="3143160"/>
            <a:chExt cx="8153280" cy="3294000"/>
          </a:xfrm>
        </p:grpSpPr>
        <p:pic>
          <p:nvPicPr>
            <p:cNvPr id="137" name="Obraz 9" descr="Pochylenie.jpg"/>
            <p:cNvPicPr/>
            <p:nvPr/>
          </p:nvPicPr>
          <p:blipFill>
            <a:blip r:embed="rId2"/>
            <a:stretch/>
          </p:blipFill>
          <p:spPr>
            <a:xfrm>
              <a:off x="3009960" y="3152520"/>
              <a:ext cx="5715000" cy="328464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38" name="Object 5"/>
                <p:cNvSpPr txBox="1"/>
                <p:nvPr/>
              </p:nvSpPr>
              <p:spPr>
                <a:xfrm>
                  <a:off x="571680" y="3143160"/>
                  <a:ext cx="2103480" cy="165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2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4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9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1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9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lac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28760" y="1428840"/>
            <a:ext cx="85010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erz translacji we współrzędnych jednorodn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Macierz"/>
              <p:cNvSpPr txBox="1"/>
              <p:nvPr/>
            </p:nvSpPr>
            <p:spPr>
              <a:xfrm>
                <a:off x="1143000" y="2071800"/>
                <a:ext cx="1749600" cy="16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Macierz z liczbami"/>
              <p:cNvSpPr txBox="1"/>
              <p:nvPr/>
            </p:nvSpPr>
            <p:spPr>
              <a:xfrm>
                <a:off x="1143000" y="2071800"/>
                <a:ext cx="1890720" cy="16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3" name="pole tekstowe 9"/>
          <p:cNvSpPr/>
          <p:nvPr/>
        </p:nvSpPr>
        <p:spPr>
          <a:xfrm>
            <a:off x="3571920" y="4286160"/>
            <a:ext cx="5000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oat T[16]={1,0,0,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1.5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1,0,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0.5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0,1,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1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0,0,1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MultMatrixf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ranspozycja(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ole tekstowe 10"/>
          <p:cNvSpPr/>
          <p:nvPr/>
        </p:nvSpPr>
        <p:spPr>
          <a:xfrm>
            <a:off x="3582720" y="4286160"/>
            <a:ext cx="348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Translatef(1.5,0.5,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Obraz 11" descr="Translacja.bmp"/>
          <p:cNvPicPr/>
          <p:nvPr/>
        </p:nvPicPr>
        <p:blipFill>
          <a:blip r:embed="rId1"/>
          <a:stretch/>
        </p:blipFill>
        <p:spPr>
          <a:xfrm>
            <a:off x="628560" y="1995480"/>
            <a:ext cx="801540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9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9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9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ładanie transformac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28760" y="1428840"/>
            <a:ext cx="85010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łożenie translacji w kier. X i obrotu wokół osi 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4"/>
              <p:cNvSpPr txBox="1"/>
              <p:nvPr/>
            </p:nvSpPr>
            <p:spPr>
              <a:xfrm>
                <a:off x="857160" y="2000160"/>
                <a:ext cx="2697120" cy="16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7"/>
              <p:cNvSpPr txBox="1"/>
              <p:nvPr/>
            </p:nvSpPr>
            <p:spPr>
              <a:xfrm>
                <a:off x="857160" y="2000160"/>
                <a:ext cx="4496040" cy="16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8"/>
              <p:cNvSpPr txBox="1"/>
              <p:nvPr/>
            </p:nvSpPr>
            <p:spPr>
              <a:xfrm>
                <a:off x="857160" y="2000160"/>
                <a:ext cx="3359160" cy="16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51" name="Obraz 11" descr="RT.bmp"/>
          <p:cNvPicPr/>
          <p:nvPr/>
        </p:nvPicPr>
        <p:blipFill>
          <a:blip r:embed="rId1"/>
          <a:stretch/>
        </p:blipFill>
        <p:spPr>
          <a:xfrm>
            <a:off x="4786200" y="1928880"/>
            <a:ext cx="3143520" cy="1806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2" name="Object 10"/>
              <p:cNvSpPr txBox="1"/>
              <p:nvPr/>
            </p:nvSpPr>
            <p:spPr>
              <a:xfrm>
                <a:off x="857160" y="4500720"/>
                <a:ext cx="4494240" cy="16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3" name="pole tekstowe 15"/>
          <p:cNvSpPr/>
          <p:nvPr/>
        </p:nvSpPr>
        <p:spPr>
          <a:xfrm>
            <a:off x="527040" y="3929040"/>
            <a:ext cx="75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łożenie translacji w kier. X i obrotu wokół osi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11"/>
              <p:cNvSpPr txBox="1"/>
              <p:nvPr/>
            </p:nvSpPr>
            <p:spPr>
              <a:xfrm>
                <a:off x="857160" y="4500720"/>
                <a:ext cx="2766960" cy="16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55" name="Obraz 17" descr="TR.bmp"/>
          <p:cNvPicPr/>
          <p:nvPr/>
        </p:nvPicPr>
        <p:blipFill>
          <a:blip r:embed="rId2"/>
          <a:stretch/>
        </p:blipFill>
        <p:spPr>
          <a:xfrm>
            <a:off x="4786200" y="4500720"/>
            <a:ext cx="3127320" cy="17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9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9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9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ót wokół wyznaczonego punkt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28760" y="142848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ót o 45° w płaszczyźnie XY wokół punktu (2,0,0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lacja o wektor [2,0,0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ole tekstowe 8"/>
          <p:cNvSpPr/>
          <p:nvPr/>
        </p:nvSpPr>
        <p:spPr>
          <a:xfrm>
            <a:off x="507960" y="3786120"/>
            <a:ext cx="294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Translatef(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2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0,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upa 13"/>
          <p:cNvGrpSpPr/>
          <p:nvPr/>
        </p:nvGrpSpPr>
        <p:grpSpPr>
          <a:xfrm>
            <a:off x="428760" y="2428920"/>
            <a:ext cx="8501040" cy="2378520"/>
            <a:chOff x="428760" y="2428920"/>
            <a:chExt cx="8501040" cy="2378520"/>
          </a:xfrm>
        </p:grpSpPr>
        <p:sp>
          <p:nvSpPr>
            <p:cNvPr id="160" name="pole tekstowe 9"/>
            <p:cNvSpPr/>
            <p:nvPr/>
          </p:nvSpPr>
          <p:spPr>
            <a:xfrm>
              <a:off x="513720" y="4286880"/>
              <a:ext cx="2997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lRotatef(</a:t>
              </a:r>
              <a:r>
                <a:rPr b="0" lang="pl-PL" sz="2800" spc="-1" strike="noStrike">
                  <a:solidFill>
                    <a:srgbClr val="00b0f0"/>
                  </a:solidFill>
                  <a:latin typeface="Times New Roman"/>
                  <a:ea typeface="Times New Roman"/>
                </a:rPr>
                <a:t>45</a:t>
              </a: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0,0,1)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ymbol zastępczy zawartości 2"/>
            <p:cNvSpPr/>
            <p:nvPr/>
          </p:nvSpPr>
          <p:spPr>
            <a:xfrm>
              <a:off x="428760" y="2428920"/>
              <a:ext cx="85010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)  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brót wokół osi Z o 45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upa 14"/>
          <p:cNvGrpSpPr/>
          <p:nvPr/>
        </p:nvGrpSpPr>
        <p:grpSpPr>
          <a:xfrm>
            <a:off x="428760" y="2928960"/>
            <a:ext cx="8501040" cy="2378520"/>
            <a:chOff x="428760" y="2928960"/>
            <a:chExt cx="8501040" cy="2378520"/>
          </a:xfrm>
        </p:grpSpPr>
        <p:sp>
          <p:nvSpPr>
            <p:cNvPr id="163" name="pole tekstowe 10"/>
            <p:cNvSpPr/>
            <p:nvPr/>
          </p:nvSpPr>
          <p:spPr>
            <a:xfrm>
              <a:off x="508680" y="4786920"/>
              <a:ext cx="3065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lTranslatef(</a:t>
              </a:r>
              <a:r>
                <a:rPr b="0" lang="pl-PL" sz="2800" spc="-1" strike="noStrike">
                  <a:solidFill>
                    <a:srgbClr val="00b0f0"/>
                  </a:solidFill>
                  <a:latin typeface="Times New Roman"/>
                  <a:ea typeface="Times New Roman"/>
                </a:rPr>
                <a:t>-2</a:t>
              </a: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0,0)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Symbol zastępczy zawartości 2"/>
            <p:cNvSpPr/>
            <p:nvPr/>
          </p:nvSpPr>
          <p:spPr>
            <a:xfrm>
              <a:off x="428760" y="2928960"/>
              <a:ext cx="850104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)   Przesunięcie o wektor  [-2,0,0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5" name="Obraz 15" descr="TRT0.bmp"/>
          <p:cNvPicPr/>
          <p:nvPr/>
        </p:nvPicPr>
        <p:blipFill>
          <a:blip r:embed="rId1"/>
          <a:stretch/>
        </p:blipFill>
        <p:spPr>
          <a:xfrm>
            <a:off x="4500720" y="3786120"/>
            <a:ext cx="4143240" cy="2381400"/>
          </a:xfrm>
          <a:prstGeom prst="rect">
            <a:avLst/>
          </a:prstGeom>
          <a:ln w="0">
            <a:noFill/>
          </a:ln>
        </p:spPr>
      </p:pic>
      <p:pic>
        <p:nvPicPr>
          <p:cNvPr id="166" name="Obraz 16" descr="TRT1.bmp"/>
          <p:cNvPicPr/>
          <p:nvPr/>
        </p:nvPicPr>
        <p:blipFill>
          <a:blip r:embed="rId2"/>
          <a:stretch/>
        </p:blipFill>
        <p:spPr>
          <a:xfrm>
            <a:off x="4500720" y="3786120"/>
            <a:ext cx="4143240" cy="2381400"/>
          </a:xfrm>
          <a:prstGeom prst="rect">
            <a:avLst/>
          </a:prstGeom>
          <a:ln w="0">
            <a:noFill/>
          </a:ln>
        </p:spPr>
      </p:pic>
      <p:pic>
        <p:nvPicPr>
          <p:cNvPr id="167" name="Obraz 17" descr="TRT2.bmp"/>
          <p:cNvPicPr/>
          <p:nvPr/>
        </p:nvPicPr>
        <p:blipFill>
          <a:blip r:embed="rId3"/>
          <a:stretch/>
        </p:blipFill>
        <p:spPr>
          <a:xfrm>
            <a:off x="4500720" y="3786120"/>
            <a:ext cx="4143240" cy="2381400"/>
          </a:xfrm>
          <a:prstGeom prst="rect">
            <a:avLst/>
          </a:prstGeom>
          <a:ln w="0">
            <a:noFill/>
          </a:ln>
        </p:spPr>
      </p:pic>
      <p:pic>
        <p:nvPicPr>
          <p:cNvPr id="168" name="Obraz 18" descr="TRT3.bmp"/>
          <p:cNvPicPr/>
          <p:nvPr/>
        </p:nvPicPr>
        <p:blipFill>
          <a:blip r:embed="rId4"/>
          <a:stretch/>
        </p:blipFill>
        <p:spPr>
          <a:xfrm>
            <a:off x="4500720" y="3786120"/>
            <a:ext cx="41432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ormac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28760" y="1428480"/>
            <a:ext cx="85010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owe pojęcia grafiki 3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Transformacj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określane we współrzędnych sceny 3D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lacja 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Translate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obrót 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Rotate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alowanie 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Scale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pochylenie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łożenie – dowolna macierz 4x4 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MultMatrix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ormacje muszą być ustalone </a:t>
            </a:r>
            <a:br>
              <a:rPr sz="2800"/>
            </a:br>
            <a:r>
              <a:rPr b="0" lang="pl-P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zed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arysowaniem wierzchołka, np..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Rotate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45.0f, 0.0f, 1.0f, 0.0f); //kąt, kierunek os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Vertex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3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…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ót wokół wyznaczonego punkt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28760" y="142848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ót o 45° w płaszczyźnie XY wokół punktu (2,0,0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lacja o wektor [2,0,0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ymbol zastępczy zawartości 2"/>
          <p:cNvSpPr/>
          <p:nvPr/>
        </p:nvSpPr>
        <p:spPr>
          <a:xfrm>
            <a:off x="428760" y="2428920"/>
            <a:ext cx="8501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 </a:t>
            </a:r>
            <a:r>
              <a:rPr b="0" lang="pl-P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ót wokół osi Z o 45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ymbol zastępczy zawartości 2"/>
          <p:cNvSpPr/>
          <p:nvPr/>
        </p:nvSpPr>
        <p:spPr>
          <a:xfrm>
            <a:off x="428760" y="2928960"/>
            <a:ext cx="85010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  Przesunięcie o wektor  [-2,0,0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2"/>
              <p:cNvSpPr txBox="1"/>
              <p:nvPr/>
            </p:nvSpPr>
            <p:spPr>
              <a:xfrm>
                <a:off x="571680" y="3786120"/>
                <a:ext cx="6481440" cy="16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3"/>
              <p:cNvSpPr txBox="1"/>
              <p:nvPr/>
            </p:nvSpPr>
            <p:spPr>
              <a:xfrm>
                <a:off x="2286000" y="3786120"/>
                <a:ext cx="4754520" cy="16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4"/>
              <p:cNvSpPr txBox="1"/>
              <p:nvPr/>
            </p:nvSpPr>
            <p:spPr>
              <a:xfrm>
                <a:off x="2286000" y="3786120"/>
                <a:ext cx="3878280" cy="16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7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zutowan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28760" y="1428840"/>
            <a:ext cx="85010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zutowanie równoległe na płaszczyznę XY 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Ortho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2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9" name="Symbol zastępczy zawartości 2"/>
          <p:cNvSpPr/>
          <p:nvPr/>
        </p:nvSpPr>
        <p:spPr>
          <a:xfrm>
            <a:off x="428760" y="3929040"/>
            <a:ext cx="8501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zutowanie perspektywiczne 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Frustum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Macierz z liczbami"/>
              <p:cNvSpPr txBox="1"/>
              <p:nvPr/>
            </p:nvSpPr>
            <p:spPr>
              <a:xfrm>
                <a:off x="1143000" y="2071800"/>
                <a:ext cx="2790720" cy="16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>
                                <m:t xml:space="preserve">z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5"/>
              <p:cNvSpPr txBox="1"/>
              <p:nvPr/>
            </p:nvSpPr>
            <p:spPr>
              <a:xfrm>
                <a:off x="1143000" y="4500720"/>
                <a:ext cx="1892160" cy="16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/</m:t>
                              </m:r>
                              <m:r>
                                <m:t xml:space="preserve">d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ormac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28760" y="1428840"/>
            <a:ext cx="8501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Współrzędne jednorodn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mogenous coordinates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prowadzone w 1946 przez E. Maxwella (rzutowani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 1965 L. Roberts użył ich do zunifikowania zapisu wszystkich transformacji: translacji, obrotów, skalowanie i pochyla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is punktów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wymiarowej przestrzeni za pomocą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1 współrzędn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cinanie we współrzędnych jednorodnych może odbywać się w sześcianie zamiast w ściętym ostrosłupie (znacznie efektywniejsze numeryczni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4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ormac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28760" y="1428480"/>
            <a:ext cx="8501040" cy="32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 współrzędnych kartezjańskich (2D)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ót i translacja mogą być zapisan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2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3"/>
              <p:cNvSpPr txBox="1"/>
              <p:nvPr/>
            </p:nvSpPr>
            <p:spPr>
              <a:xfrm>
                <a:off x="857160" y="2357280"/>
                <a:ext cx="6910560" cy="8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O</m:t>
                        </m:r>
                      </m:e>
                    </m:acc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T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x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x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x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y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61" name="Grupa 10"/>
          <p:cNvGrpSpPr/>
          <p:nvPr/>
        </p:nvGrpSpPr>
        <p:grpSpPr>
          <a:xfrm>
            <a:off x="352080" y="3643200"/>
            <a:ext cx="6886800" cy="1785960"/>
            <a:chOff x="352080" y="3643200"/>
            <a:chExt cx="6886800" cy="1785960"/>
          </a:xfrm>
        </p:grpSpPr>
        <p:sp>
          <p:nvSpPr>
            <p:cNvPr id="62" name="pole tekstowe 6"/>
            <p:cNvSpPr/>
            <p:nvPr/>
          </p:nvSpPr>
          <p:spPr>
            <a:xfrm>
              <a:off x="352080" y="3643200"/>
              <a:ext cx="533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e współrzędnych jednorodnych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" name="Object 6"/>
                <p:cNvSpPr txBox="1"/>
                <p:nvPr/>
              </p:nvSpPr>
              <p:spPr>
                <a:xfrm>
                  <a:off x="833400" y="4143240"/>
                  <a:ext cx="6405480" cy="128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x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y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r>
                        <m:t xml:space="preserve">H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x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y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x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y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x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x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x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y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erze w C++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28760" y="142848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leży pamiętać, że macierze w OpenGL zapisywane są kolumnami (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M[</a:t>
            </a:r>
            <a:r>
              <a:rPr b="0" i="1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nr kolumny+rozmiar*nr wiersza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]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znacza to, że macier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2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6"/>
              <p:cNvSpPr txBox="1"/>
              <p:nvPr/>
            </p:nvSpPr>
            <p:spPr>
              <a:xfrm>
                <a:off x="4286160" y="2500200"/>
                <a:ext cx="1846440" cy="16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C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E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F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8" name="pole tekstowe 9"/>
          <p:cNvSpPr/>
          <p:nvPr/>
        </p:nvSpPr>
        <p:spPr>
          <a:xfrm>
            <a:off x="810360" y="4214880"/>
            <a:ext cx="49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żemy zadeklarować instrukcj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ole tekstowe 13"/>
          <p:cNvSpPr/>
          <p:nvPr/>
        </p:nvSpPr>
        <p:spPr>
          <a:xfrm>
            <a:off x="1232280" y="4726080"/>
            <a:ext cx="4261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float I[4][4]={{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{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{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{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}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ole tekstowe 14"/>
          <p:cNvSpPr/>
          <p:nvPr/>
        </p:nvSpPr>
        <p:spPr>
          <a:xfrm>
            <a:off x="1200240" y="4711680"/>
            <a:ext cx="4371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float I[16]={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ole tekstowe 15"/>
          <p:cNvSpPr/>
          <p:nvPr/>
        </p:nvSpPr>
        <p:spPr>
          <a:xfrm>
            <a:off x="6654960" y="5429160"/>
            <a:ext cx="198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 OpenGL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erze 1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9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erze w C++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żeli chcemy ułatwić sobie życie, możemy zdefiniować funkcję wykonującą transpozycję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2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6"/>
              <p:cNvSpPr txBox="1"/>
              <p:nvPr/>
            </p:nvSpPr>
            <p:spPr>
              <a:xfrm>
                <a:off x="1000080" y="2428920"/>
                <a:ext cx="4071960" cy="16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</m:mr>
                          <m:mr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  <m:e>
                              <m:r>
                                <m:t xml:space="preserve">E</m:t>
                              </m:r>
                            </m:e>
                            <m:e>
                              <m:r>
                                <m:t xml:space="preserve">F</m:t>
                              </m:r>
                            </m:e>
                          </m:mr>
                        </m:m>
                      </m:e>
                    </m:d>
                    <m:r>
                      <m:t xml:space="preserve">→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C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E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F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erze w C++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28760" y="1428480"/>
            <a:ext cx="850104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oat* </a:t>
            </a:r>
            <a:r>
              <a:rPr b="0" lang="pl-PL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Transpozycja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float* M,int rozmiar=4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(int kolumna=0;kolumna&lt;rozmiar;++kolumn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(int wiersz=kolumna+1;wiersz&lt;rozmiar;++wiersz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pl-PL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float tmp=M[kolumna+rozmiar*wiersz]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    </a:t>
            </a:r>
            <a:r>
              <a:rPr b="0" lang="pl-PL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M[kolumna+rozmiar*wiersz]=M[wiersz+rozmiar*kolumna]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    </a:t>
            </a:r>
            <a:r>
              <a:rPr b="0" lang="pl-PL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M[wiersz+rozmiar*kolumna]=tmp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M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2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kcja glMultMatr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28760" y="1428480"/>
            <a:ext cx="850104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kcja OpenGL 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MultMatrix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ykonuje mnożenie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eżącej macierzy M (np. model-widok) przez macierz H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aną w argumencie tj. 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M → M·H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tmultiplication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Grupa 8"/>
          <p:cNvGrpSpPr/>
          <p:nvPr/>
        </p:nvGrpSpPr>
        <p:grpSpPr>
          <a:xfrm>
            <a:off x="539280" y="2928960"/>
            <a:ext cx="8149680" cy="2224080"/>
            <a:chOff x="539280" y="2928960"/>
            <a:chExt cx="8149680" cy="2224080"/>
          </a:xfrm>
        </p:grpSpPr>
        <mc:AlternateContent>
          <mc:Choice xmlns:a14="http://schemas.microsoft.com/office/drawing/2010/main" Requires="a14">
            <p:sp>
              <p:nvSpPr>
                <p:cNvPr id="82" name="Object 6"/>
                <p:cNvSpPr txBox="1"/>
                <p:nvPr/>
              </p:nvSpPr>
              <p:spPr>
                <a:xfrm>
                  <a:off x="571320" y="3500280"/>
                  <a:ext cx="1679400" cy="165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83" name="pole tekstowe 6"/>
            <p:cNvSpPr/>
            <p:nvPr/>
          </p:nvSpPr>
          <p:spPr>
            <a:xfrm>
              <a:off x="539280" y="2928960"/>
              <a:ext cx="814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zykład użycia – mnożenie przez macierz jednostkow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pole tekstowe 7"/>
          <p:cNvSpPr/>
          <p:nvPr/>
        </p:nvSpPr>
        <p:spPr>
          <a:xfrm>
            <a:off x="2943000" y="3500280"/>
            <a:ext cx="5429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glMatrixMode(GL_MODELVIEW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glLoadIdentity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oat I[16]={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1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0,0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1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0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0,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1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0,0,1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MultMatrixf(</a:t>
            </a:r>
            <a:r>
              <a:rPr b="0" lang="pl-PL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Transpozycja(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)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ole tekstowe 10"/>
          <p:cNvSpPr/>
          <p:nvPr/>
        </p:nvSpPr>
        <p:spPr>
          <a:xfrm>
            <a:off x="221400" y="5929200"/>
            <a:ext cx="2588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W szablonie zmiany wprowadzać</a:t>
            </a:r>
            <a:br>
              <a:rPr sz="1400"/>
            </a:br>
            <a:r>
              <a:rPr b="0" lang="pl-PL" sz="1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w funkcji TForm1::RysujScene </a:t>
            </a:r>
            <a:br>
              <a:rPr sz="1400"/>
            </a:br>
            <a:r>
              <a:rPr b="0" lang="pl-PL" sz="1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przed rysowaniem figu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9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9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9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kcja glMultMatr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28760" y="1428840"/>
            <a:ext cx="850104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ekt mnożenia przez macierz I: żadnych zmi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Obraz 8" descr="Szablon.jpg"/>
          <p:cNvPicPr/>
          <p:nvPr/>
        </p:nvPicPr>
        <p:blipFill>
          <a:blip r:embed="rId1"/>
          <a:stretch/>
        </p:blipFill>
        <p:spPr>
          <a:xfrm>
            <a:off x="500040" y="2214720"/>
            <a:ext cx="7286760" cy="41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15:38:26Z</dcterms:created>
  <dc:creator>Jacek Matulewski</dc:creator>
  <dc:description/>
  <dc:language>en-US</dc:language>
  <cp:lastModifiedBy>Jacek Matulewski</cp:lastModifiedBy>
  <dcterms:modified xsi:type="dcterms:W3CDTF">2009-05-21T14:34:37Z</dcterms:modified>
  <cp:revision>314</cp:revision>
  <dc:subject/>
  <dc:title>Grafika 3D</dc:title>
</cp:coreProperties>
</file>